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DE4-0C4E-43E4-8FC5-E102E0A2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B2E-14DC-42E6-9021-B71E43E6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9D1-1E6E-4BEF-A8DF-D3AF9915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BC4-AEE5-47C7-9696-262E687A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B3DA-33B0-40FE-BC23-E4BB1069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33B7-E10D-4062-A3D9-29526651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AA6E-26A0-4021-930B-B8441D19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346B-2386-4730-BF56-2F221988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ADFA-3A68-43D7-8004-FA66F8D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6867-8698-49B1-ACAF-294D7E6F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DA8F-7E15-44D4-9C60-4833EDD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319-45FB-43D2-B992-4709CEE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A540-8006-4F58-AEA5-D9E503A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759F-4B78-47F5-8B7C-428586B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67BF-87D3-4280-B6E5-6307BAF8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3C48-1173-4940-80C0-D6279836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8A1C-61AD-48C8-AD21-D28E4726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DA33-5F7B-4C58-A466-E9EAD7C9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B7BF-75CA-42AC-8765-B497F66D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D40B-8BFD-4637-9656-4075220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F38A-011B-4524-8466-663A26A9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5504-212B-469E-A02B-D10E03A2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407-5334-4CE0-A2ED-7AD271F7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E4330-F3C5-4993-8BAC-4E6D64D5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9F0A-A451-4A98-9B66-187B78BB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BB81-D5CB-4520-B47C-9ED28DD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39B4-E3D0-4724-B23D-B236DC69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4D29-903A-4257-AB9D-9CA8E43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A297-7B91-4AF5-82D8-FAF919B4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02F8-4238-4700-90B6-68BC54EA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C0917-3FC5-4D83-810F-07707BC1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914B-E50E-4203-B9AD-5838F96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3428-37E7-486C-88F0-797DA4FB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AC3-548E-4AE0-88C0-15F85DDC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32D3-E1EF-4A03-BA17-A88A2C5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5E7C-6D83-4AAA-B171-B8FE7CDB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19797-542C-48C4-95DE-C239102E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7F9F-2F88-4988-BBCA-7BC682EA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D510-25D5-407D-9DFD-CBFB8F54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003E-2637-4C98-9F94-C0D5F375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7EDD-2BDC-4B35-97C2-630516CD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E9D8-9F9D-4AFD-A85E-55140F0A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FC08D-42DE-4812-8CB7-1C322EF8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E61-5CE6-48B8-8F21-A82A756E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14A-E7F1-441E-8460-A12DB226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F27-9BDC-4F99-A876-DEF3A06D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BC5-B9E3-4F54-A222-504CE5A1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DF7-A553-48E2-B28A-B356BF16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2f2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f2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f2f2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BA13-5626-4D2C-818F-07EBEF65F889}" type="slidenum">
              <a:rPr b="0" lang="en-GB" sz="1200" spc="-1" strike="noStrike">
                <a:solidFill>
                  <a:srgbClr val="2f2f2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4c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CCC-2E9C-47D4-B4A6-C4E6D3543B95}" type="slidenum">
              <a:rPr b="0" lang="en-GB" sz="1200" spc="-1" strike="noStrike">
                <a:solidFill>
                  <a:srgbClr val="d9d4c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4c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2CC0-9F3C-4C85-A3EA-FFC6E5BB6C54}" type="slidenum">
              <a:rPr b="0" lang="en-GB" sz="1200" spc="-1" strike="noStrike">
                <a:solidFill>
                  <a:srgbClr val="d9d4c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2f2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f2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f2f2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928E-CDAB-468F-BBB5-F230BE5B8E16}" type="slidenum">
              <a:rPr b="0" lang="en-GB" sz="1200" spc="-1" strike="noStrike">
                <a:solidFill>
                  <a:srgbClr val="2f2f2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2"/>
          <a:stretch/>
        </p:blipFill>
        <p:spPr>
          <a:xfrm>
            <a:off x="706320" y="231840"/>
            <a:ext cx="7602480" cy="609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6760" y="85716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Elephant"/>
                <a:ea typeface="Andalus"/>
              </a:rPr>
              <a:t>Dwy dref sy’n agos at yr arfordir yw Aber a Borth. Gwelir bwi (</a:t>
            </a:r>
            <a:r>
              <a:rPr b="0" i="1" lang="cy-GB" sz="1600" spc="-1" strike="noStrike">
                <a:solidFill>
                  <a:srgbClr val="ffffff"/>
                </a:solidFill>
                <a:latin typeface="Elephant"/>
                <a:ea typeface="Andalus"/>
              </a:rPr>
              <a:t>buoy</a:t>
            </a:r>
            <a:r>
              <a:rPr b="0" lang="cy-GB" sz="1600" spc="-1" strike="noStrike">
                <a:solidFill>
                  <a:srgbClr val="ffffff"/>
                </a:solidFill>
                <a:latin typeface="Elephant"/>
                <a:ea typeface="Andalus"/>
              </a:rPr>
              <a:t>) ar gyfeiriant o 077° oddi wrth Aber ac ar gyfeiriant o 202° oddi wrth Borth. Lluniwch y cyfeiriannau hyn a marciwch safle’r bwi yn X.</a:t>
            </a:r>
            <a:r>
              <a:rPr b="0" lang="cy-GB" sz="1600" spc="-1" strike="noStrike">
                <a:solidFill>
                  <a:srgbClr val="ffffff"/>
                </a:solidFill>
                <a:latin typeface="Elephant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ounded Rectangle 4"/>
          <p:cNvSpPr/>
          <p:nvPr/>
        </p:nvSpPr>
        <p:spPr>
          <a:xfrm>
            <a:off x="642960" y="1857240"/>
            <a:ext cx="7858080" cy="471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604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0"/>
          <p:cNvGrpSpPr/>
          <p:nvPr/>
        </p:nvGrpSpPr>
        <p:grpSpPr>
          <a:xfrm>
            <a:off x="1928880" y="1928880"/>
            <a:ext cx="5572080" cy="4500360"/>
            <a:chOff x="1928880" y="1928880"/>
            <a:chExt cx="5572080" cy="4500360"/>
          </a:xfrm>
        </p:grpSpPr>
        <p:pic>
          <p:nvPicPr>
            <p:cNvPr id="199" name="Group 6" descr=""/>
            <p:cNvPicPr/>
            <p:nvPr/>
          </p:nvPicPr>
          <p:blipFill>
            <a:blip r:embed="rId3"/>
            <a:stretch/>
          </p:blipFill>
          <p:spPr>
            <a:xfrm>
              <a:off x="1928880" y="1928880"/>
              <a:ext cx="5572080" cy="45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9"/>
            <p:cNvSpPr/>
            <p:nvPr/>
          </p:nvSpPr>
          <p:spPr>
            <a:xfrm>
              <a:off x="1937160" y="439200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T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5"/>
          <p:cNvSpPr/>
          <p:nvPr/>
        </p:nvSpPr>
        <p:spPr>
          <a:xfrm>
            <a:off x="571680" y="500040"/>
            <a:ext cx="8072280" cy="585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08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http://media.nasaexplores.com/lessons/02-019/images/protractor5.jpg"/>
          <p:cNvPicPr/>
          <p:nvPr/>
        </p:nvPicPr>
        <p:blipFill>
          <a:blip r:embed="rId2"/>
          <a:stretch/>
        </p:blipFill>
        <p:spPr>
          <a:xfrm>
            <a:off x="3214800" y="3786120"/>
            <a:ext cx="2058840" cy="3214800"/>
          </a:xfrm>
          <a:prstGeom prst="rect">
            <a:avLst/>
          </a:prstGeom>
          <a:ln w="0">
            <a:noFill/>
          </a:ln>
        </p:spPr>
      </p:pic>
      <p:cxnSp>
        <p:nvCxnSpPr>
          <p:cNvPr id="203" name="AutoShape 38"/>
          <p:cNvCxnSpPr/>
          <p:nvPr/>
        </p:nvCxnSpPr>
        <p:spPr>
          <a:xfrm flipV="1">
            <a:off x="3571560" y="4785480"/>
            <a:ext cx="264852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04" name="Picture 3" descr="http://media.nasaexplores.com/lessons/02-019/images/protractor5.jpg"/>
          <p:cNvPicPr/>
          <p:nvPr/>
        </p:nvPicPr>
        <p:blipFill>
          <a:blip r:embed="rId3"/>
          <a:stretch/>
        </p:blipFill>
        <p:spPr>
          <a:xfrm>
            <a:off x="5357880" y="428760"/>
            <a:ext cx="2071800" cy="32112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23"/>
          <p:cNvGrpSpPr/>
          <p:nvPr/>
        </p:nvGrpSpPr>
        <p:grpSpPr>
          <a:xfrm>
            <a:off x="1785960" y="1071360"/>
            <a:ext cx="6000840" cy="4549680"/>
            <a:chOff x="1785960" y="1071360"/>
            <a:chExt cx="6000840" cy="4549680"/>
          </a:xfrm>
        </p:grpSpPr>
        <p:grpSp>
          <p:nvGrpSpPr>
            <p:cNvPr id="206" name="Group 24"/>
            <p:cNvGrpSpPr/>
            <p:nvPr/>
          </p:nvGrpSpPr>
          <p:grpSpPr>
            <a:xfrm>
              <a:off x="1785960" y="1071360"/>
              <a:ext cx="5290920" cy="4544280"/>
              <a:chOff x="1785960" y="1071360"/>
              <a:chExt cx="5290920" cy="4544280"/>
            </a:xfrm>
          </p:grpSpPr>
          <p:grpSp>
            <p:nvGrpSpPr>
              <p:cNvPr id="207" name="Group 25"/>
              <p:cNvGrpSpPr/>
              <p:nvPr/>
            </p:nvGrpSpPr>
            <p:grpSpPr>
              <a:xfrm>
                <a:off x="1785960" y="1071360"/>
                <a:ext cx="5290920" cy="4544280"/>
                <a:chOff x="1785960" y="1071360"/>
                <a:chExt cx="5290920" cy="4544280"/>
              </a:xfrm>
            </p:grpSpPr>
            <p:grpSp>
              <p:nvGrpSpPr>
                <p:cNvPr id="208" name="Group 26"/>
                <p:cNvGrpSpPr/>
                <p:nvPr/>
              </p:nvGrpSpPr>
              <p:grpSpPr>
                <a:xfrm>
                  <a:off x="1785960" y="1071360"/>
                  <a:ext cx="272880" cy="967680"/>
                  <a:chOff x="1785960" y="1071360"/>
                  <a:chExt cx="272880" cy="967680"/>
                </a:xfrm>
              </p:grpSpPr>
              <p:grpSp>
                <p:nvGrpSpPr>
                  <p:cNvPr id="209" name="Group 27"/>
                  <p:cNvGrpSpPr/>
                  <p:nvPr/>
                </p:nvGrpSpPr>
                <p:grpSpPr>
                  <a:xfrm>
                    <a:off x="1790280" y="1071360"/>
                    <a:ext cx="192240" cy="682200"/>
                    <a:chOff x="1790280" y="1071360"/>
                    <a:chExt cx="192240" cy="682200"/>
                  </a:xfrm>
                </p:grpSpPr>
                <p:cxnSp>
                  <p:nvCxnSpPr>
                    <p:cNvPr id="210" name="AutoShape 28"/>
                    <p:cNvCxnSpPr/>
                    <p:nvPr/>
                  </p:nvCxnSpPr>
                  <p:spPr>
                    <a:xfrm flipV="1">
                      <a:off x="1895760" y="1071360"/>
                      <a:ext cx="9360" cy="682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11" name="AutoShape 29"/>
                    <p:cNvCxnSpPr/>
                    <p:nvPr/>
                  </p:nvCxnSpPr>
                  <p:spPr>
                    <a:xfrm flipH="1">
                      <a:off x="1790280" y="1597320"/>
                      <a:ext cx="192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pic>
                <p:nvPicPr>
                  <p:cNvPr id="212" name="Text Box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1743120"/>
                    <a:ext cx="272880" cy="2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13" name="Freeform 31"/>
                <p:cNvSpPr/>
                <p:nvPr/>
              </p:nvSpPr>
              <p:spPr>
                <a:xfrm>
                  <a:off x="2476080" y="1759680"/>
                  <a:ext cx="4600800" cy="385596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  <a:effectLst>
                  <a:outerShdw dist="38160" dir="5400000" blurRad="0" rotWithShape="0">
                    <a:srgbClr val="000000">
                      <a:alpha val="4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2"/>
                <p:cNvSpPr/>
                <p:nvPr/>
              </p:nvSpPr>
              <p:spPr>
                <a:xfrm>
                  <a:off x="6906600" y="1862640"/>
                  <a:ext cx="169560" cy="176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2f2f2"/>
                  </a:solidFill>
                  <a:miter/>
                </a:ln>
                <a:effectLst>
                  <a:outerShdw dist="17819" dir="2700000" blurRad="0" rotWithShape="0">
                    <a:srgbClr val="7f7f7f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3"/>
                <p:cNvSpPr/>
                <p:nvPr/>
              </p:nvSpPr>
              <p:spPr>
                <a:xfrm>
                  <a:off x="3526560" y="5319360"/>
                  <a:ext cx="169560" cy="1771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2f2f2"/>
                  </a:solidFill>
                  <a:miter/>
                </a:ln>
                <a:effectLst>
                  <a:outerShdw dist="17819" dir="2700000" blurRad="0" rotWithShape="0">
                    <a:srgbClr val="7f7f7f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16" name="AutoShape 34"/>
              <p:cNvCxnSpPr/>
              <p:nvPr/>
            </p:nvCxnSpPr>
            <p:spPr>
              <a:xfrm flipV="1">
                <a:off x="6982560" y="1258560"/>
                <a:ext cx="1080" cy="687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AutoShape 35"/>
              <p:cNvCxnSpPr/>
              <p:nvPr/>
            </p:nvCxnSpPr>
            <p:spPr>
              <a:xfrm flipV="1">
                <a:off x="3591000" y="4686480"/>
                <a:ext cx="1080" cy="687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pic>
          <p:nvPicPr>
            <p:cNvPr id="218" name="Text Box 36" descr=""/>
            <p:cNvPicPr/>
            <p:nvPr/>
          </p:nvPicPr>
          <p:blipFill>
            <a:blip r:embed="rId5"/>
            <a:stretch/>
          </p:blipFill>
          <p:spPr>
            <a:xfrm>
              <a:off x="7049520" y="1779480"/>
              <a:ext cx="737280" cy="3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Text Box 37" descr=""/>
            <p:cNvPicPr/>
            <p:nvPr/>
          </p:nvPicPr>
          <p:blipFill>
            <a:blip r:embed="rId6"/>
            <a:stretch/>
          </p:blipFill>
          <p:spPr>
            <a:xfrm>
              <a:off x="2961360" y="5280120"/>
              <a:ext cx="737280" cy="3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Straight Connector 21"/>
          <p:cNvSpPr/>
          <p:nvPr/>
        </p:nvSpPr>
        <p:spPr>
          <a:xfrm flipH="1">
            <a:off x="5857560" y="1863000"/>
            <a:ext cx="1136520" cy="3279960"/>
          </a:xfrm>
          <a:prstGeom prst="line">
            <a:avLst/>
          </a:prstGeom>
          <a:ln w="9360">
            <a:solidFill>
              <a:srgbClr val="103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6"/>
          <p:cNvGrpSpPr/>
          <p:nvPr/>
        </p:nvGrpSpPr>
        <p:grpSpPr>
          <a:xfrm>
            <a:off x="6000840" y="4500720"/>
            <a:ext cx="1976400" cy="714240"/>
            <a:chOff x="6000840" y="4500720"/>
            <a:chExt cx="1976400" cy="714240"/>
          </a:xfrm>
        </p:grpSpPr>
        <p:sp>
          <p:nvSpPr>
            <p:cNvPr id="222" name="Left Arrow 22"/>
            <p:cNvSpPr/>
            <p:nvPr/>
          </p:nvSpPr>
          <p:spPr>
            <a:xfrm>
              <a:off x="6000840" y="4500720"/>
              <a:ext cx="544680" cy="71424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7030a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23"/>
            <p:cNvSpPr/>
            <p:nvPr/>
          </p:nvSpPr>
          <p:spPr>
            <a:xfrm>
              <a:off x="6500880" y="4500720"/>
              <a:ext cx="1476360" cy="64260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32060a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y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eoliaad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27"/>
          <p:cNvSpPr/>
          <p:nvPr/>
        </p:nvSpPr>
        <p:spPr>
          <a:xfrm>
            <a:off x="592920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xplosion 1 28"/>
          <p:cNvSpPr/>
          <p:nvPr/>
        </p:nvSpPr>
        <p:spPr>
          <a:xfrm>
            <a:off x="1214280" y="3929040"/>
            <a:ext cx="4071960" cy="24289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Lluniwch y cyfeiriant o 077º oddi wrth A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xplosion 1 30"/>
          <p:cNvSpPr/>
          <p:nvPr/>
        </p:nvSpPr>
        <p:spPr>
          <a:xfrm>
            <a:off x="3786120" y="714240"/>
            <a:ext cx="5500800" cy="33577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Lluniwch y cyfeiriant o 202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oddi wrth Bor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Comic Sans MS"/>
              </a:rPr>
              <a:t>Cofiwch bod yr ongl yn fwy na 180º felly lluniwch 360º - 202º = 158º  yn wrthglocwe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17:17Z</dcterms:created>
  <dc:creator> </dc:creator>
  <dc:description/>
  <dc:language>en-US</dc:language>
  <cp:lastModifiedBy>Carwyn</cp:lastModifiedBy>
  <dcterms:modified xsi:type="dcterms:W3CDTF">2008-04-28T20:10:04Z</dcterms:modified>
  <cp:revision>30</cp:revision>
  <dc:subject/>
  <dc:title>Slide 1</dc:title>
</cp:coreProperties>
</file>